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FAD-18A5-499D-8AF4-DD65FACB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F99B-164F-4802-907A-228C0BA3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0FDB-8076-4A90-A5D1-3D4A5855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E56D-2D04-4F51-9FEE-A93BDEE0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7193-D55B-4B9D-8092-AF8A1F7F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77B7-6E16-4549-908B-EED38156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389-5D9F-4212-A49B-6AD22BE4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A13D-AFFD-4E93-A678-0A424CC9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6F84-E8C1-4907-AAA7-ACAEAA79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6F2A-644C-4E80-A570-9760C25F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D637-B4D5-4D45-8A85-0A2B4C3A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7BA2-7D5E-418C-B59E-03A9F51B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FC8E-7795-4A44-A4DC-388591F26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2192400" cy="2813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38680" y="457200"/>
            <a:ext cx="2414880" cy="2819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0880" y="37339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cameras were invented, the only way people could have a portrait or themselves or a friend or family member was to ask an artist to draw or paint it for them.  Now, most people use camera to make portraits or pictures, but 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still like to have their portrait painted by an art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uld you prefer?  Tell wh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93760" y="685800"/>
            <a:ext cx="2552760" cy="3276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257800" y="685800"/>
            <a:ext cx="2806560" cy="3276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03480" y="384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4191120"/>
            <a:ext cx="29718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“Portrait of a Gentlem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Jacob Marling, American, 1744-18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oil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27” x 21.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18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37040" y="331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4191120"/>
            <a:ext cx="29718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:  “Portrait of Ruth DeWit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/Dates: Vollian Rann, American, 1898-19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 pas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: 16” x 14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e: 1947-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6360" y="586728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would you like to know about the art or the arti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fin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4680" y="65160"/>
            <a:ext cx="64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the art and the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562720" y="1066680"/>
            <a:ext cx="2414520" cy="2819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2192400" cy="2813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661480" y="182520"/>
            <a:ext cx="365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Six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600" y="4230720"/>
            <a:ext cx="72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Arts:  oral language, descrip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udies:  roles in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Art:  portraits, texture, background, col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,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2192400" cy="2813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562720" y="1295280"/>
            <a:ext cx="2414520" cy="2819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5280" y="4419720"/>
            <a:ext cx="846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rtrait usually presents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can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gn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rtist is portraying, but it may not lo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ly like that pers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tle is often something like “A Portrait of Mary Smith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7480" y="152280"/>
            <a:ext cx="77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artist makes a painting or drawing intend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is calle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r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2192400" cy="281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62720" y="1066680"/>
            <a:ext cx="2414520" cy="2819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0920" y="4419720"/>
            <a:ext cx="782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take some time to look carefully at these paint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e on the left is titled, “Portrait of a Gentleman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e on the right is called, “Portrait of Ruth DeWitt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6200" y="228600"/>
            <a:ext cx="50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of these paintings are portra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2192400" cy="2813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562720" y="1066680"/>
            <a:ext cx="2414520" cy="2819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3800" y="4419720"/>
            <a:ext cx="815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find an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o help you predict when 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se portraits was pain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ook at clothing, hair styles, backg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2192400" cy="2813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562720" y="1066680"/>
            <a:ext cx="2414520" cy="2819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6520" y="4267080"/>
            <a:ext cx="71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spot any clues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setting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paintin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and contr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two portrait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re the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How are the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carefully at color, texture, space, and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2192400" cy="2813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562720" y="1066680"/>
            <a:ext cx="2414520" cy="2819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1160" y="4114800"/>
            <a:ext cx="82947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mak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these people from loo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ir portrai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i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s in soci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the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?  Do they have a large or small famil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they hav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b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?  What kind of work do they 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h or po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?  Support your answer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2192400" cy="2813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62720" y="1066680"/>
            <a:ext cx="2414520" cy="2819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53000" y="4230720"/>
            <a:ext cx="8667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your school pictures.  They are portraits of 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re they alike or different from these portra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r school portraits have a painted background or can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what was really behind you when the picture was tak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2192400" cy="281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562720" y="1066680"/>
            <a:ext cx="2414520" cy="2819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7600" y="4230720"/>
            <a:ext cx="878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how long does it take for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tograp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make y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rait at schoo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feel about sitting still long enough for an art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aint or draw a portrait of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ha Burdette</cp:lastModifiedBy>
  <dcterms:modified xsi:type="dcterms:W3CDTF">2007-07-26T22:23:50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